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gif" ContentType="image/gif"/>
  <Override PartName="/ppt/media/image7.png" ContentType="image/png"/>
  <Override PartName="/ppt/media/image4.jpeg" ContentType="image/jpeg"/>
  <Override PartName="/ppt/media/image5.gif" ContentType="image/gif"/>
  <Override PartName="/ppt/media/image9.png" ContentType="image/png"/>
  <Override PartName="/ppt/media/image6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F668-84EF-4454-84D4-5B78C1C1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41B3-4CC3-430F-81C3-0F48BDBC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956B-AD2C-45D9-8EE5-74C134C5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724A-EE6A-4653-9BA7-AB0158D1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6375-8DEC-41E1-88EC-CB0B0001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5D54-FCFA-4583-B013-14EE43F4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0138-756B-45FD-B499-0E5ED605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4A0E-1C83-4CD6-8E80-3D4896C7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E929-C3CA-4C53-9B05-7CA3E884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1DFA-0187-4B07-9B5C-8E1D1639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446E-3DA5-42F5-B0A9-6273C91B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F381-1E65-47C4-B66A-868BBA2F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9924-3D3A-4478-8997-C58F0B517B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71680" y="500040"/>
            <a:ext cx="7924680" cy="1143000"/>
          </a:xfrm>
          <a:prstGeom prst="rect">
            <a:avLst/>
          </a:prstGeom>
          <a:solidFill>
            <a:srgbClr val="fefe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имическая термодинамик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j0379781[1]"/>
          <p:cNvPicPr/>
          <p:nvPr/>
        </p:nvPicPr>
        <p:blipFill>
          <a:blip r:embed="rId1"/>
          <a:stretch/>
        </p:blipFill>
        <p:spPr>
          <a:xfrm>
            <a:off x="4572000" y="1714680"/>
            <a:ext cx="4071960" cy="4448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chemestry_v2[1]"/>
          <p:cNvPicPr/>
          <p:nvPr/>
        </p:nvPicPr>
        <p:blipFill>
          <a:blip r:embed="rId2"/>
          <a:stretch/>
        </p:blipFill>
        <p:spPr>
          <a:xfrm>
            <a:off x="285840" y="1214280"/>
            <a:ext cx="3786120" cy="507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685800" y="533520"/>
            <a:ext cx="800100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сли в результате реакции теплота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ыделяется, т.е. энтальпия системы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нижается (</a:t>
            </a:r>
            <a:r>
              <a:rPr b="1" i="1" lang="ru-RU" sz="2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H&lt;0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реакция называется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экзотермической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Если повышается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ru-RU" sz="2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&gt;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эндо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термической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"/>
          <p:cNvSpPr/>
          <p:nvPr/>
        </p:nvSpPr>
        <p:spPr>
          <a:xfrm>
            <a:off x="990720" y="5486400"/>
            <a:ext cx="3124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 flipV="1">
            <a:off x="990720" y="3276720"/>
            <a:ext cx="144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1066680" y="3886200"/>
            <a:ext cx="13716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>
            <a:off x="2514600" y="4876920"/>
            <a:ext cx="106668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438280" y="3962520"/>
            <a:ext cx="180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2669040" y="4114800"/>
            <a:ext cx="14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&lt;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992880" y="3352680"/>
            <a:ext cx="17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ходны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439720" y="495288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у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382320" y="2971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Arial"/>
                <a:ea typeface="Arial"/>
              </a:rPr>
              <a:t>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992160" y="5562720"/>
            <a:ext cx="32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координата реак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3" descr="Feather_writes"/>
          <p:cNvPicPr/>
          <p:nvPr/>
        </p:nvPicPr>
        <p:blipFill>
          <a:blip r:embed="rId1"/>
          <a:stretch/>
        </p:blipFill>
        <p:spPr>
          <a:xfrm>
            <a:off x="7543800" y="22860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88" name="Line 14"/>
          <p:cNvSpPr/>
          <p:nvPr/>
        </p:nvSpPr>
        <p:spPr>
          <a:xfrm>
            <a:off x="5092560" y="5410080"/>
            <a:ext cx="3124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5"/>
          <p:cNvSpPr/>
          <p:nvPr/>
        </p:nvSpPr>
        <p:spPr>
          <a:xfrm flipV="1">
            <a:off x="5092560" y="3200400"/>
            <a:ext cx="180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>
            <a:off x="5181480" y="4800600"/>
            <a:ext cx="13716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7"/>
          <p:cNvSpPr/>
          <p:nvPr/>
        </p:nvSpPr>
        <p:spPr>
          <a:xfrm>
            <a:off x="6553080" y="3809880"/>
            <a:ext cx="106704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8"/>
          <p:cNvSpPr/>
          <p:nvPr/>
        </p:nvSpPr>
        <p:spPr>
          <a:xfrm>
            <a:off x="6540480" y="3886200"/>
            <a:ext cx="144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9"/>
          <p:cNvSpPr/>
          <p:nvPr/>
        </p:nvSpPr>
        <p:spPr>
          <a:xfrm>
            <a:off x="6770880" y="4038480"/>
            <a:ext cx="141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&gt;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5107680" y="4876920"/>
            <a:ext cx="17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ходны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6249960" y="327672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у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2"/>
          <p:cNvSpPr/>
          <p:nvPr/>
        </p:nvSpPr>
        <p:spPr>
          <a:xfrm>
            <a:off x="4484520" y="2895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Arial"/>
                <a:ea typeface="Arial"/>
              </a:rPr>
              <a:t>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3"/>
          <p:cNvSpPr/>
          <p:nvPr/>
        </p:nvSpPr>
        <p:spPr>
          <a:xfrm>
            <a:off x="5094360" y="5486400"/>
            <a:ext cx="32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координата реак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"/>
                            </p:stCondLst>
                            <p:childTnLst>
                              <p:par>
                                <p:cTn id="25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500"/>
                            </p:stCondLst>
                            <p:childTnLst>
                              <p:par>
                                <p:cTn id="28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6000"/>
                            </p:stCondLst>
                            <p:childTnLst>
                              <p:par>
                                <p:cTn id="2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500"/>
                            </p:stCondLst>
                            <p:childTnLst>
                              <p:par>
                                <p:cTn id="2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7000"/>
                            </p:stCondLst>
                            <p:childTnLst>
                              <p:par>
                                <p:cTn id="29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500"/>
                            </p:stCondLst>
                            <p:childTnLst>
                              <p:par>
                                <p:cTn id="2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2627280" y="3860640"/>
            <a:ext cx="3529080" cy="792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Feather_writes"/>
          <p:cNvPicPr/>
          <p:nvPr/>
        </p:nvPicPr>
        <p:blipFill>
          <a:blip r:embed="rId1"/>
          <a:stretch/>
        </p:blipFill>
        <p:spPr>
          <a:xfrm>
            <a:off x="7162920" y="152280"/>
            <a:ext cx="1751040" cy="17510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684360" y="333360"/>
            <a:ext cx="6191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тандартные услов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ичество вещества – 1 мол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вление – 101325 П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пература – 29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25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79280" y="249228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г) + 2,5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г)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г) +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г)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-ции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1256 кД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50920" y="3860640"/>
            <a:ext cx="807696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Сгр + 3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г) + 0,5 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г) = 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 (ж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)(ж) = – 277 кД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ь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468360" y="1268280"/>
            <a:ext cx="8229600" cy="20739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Энтальпия реакции, т.е. тепловой эффект реакции при р,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=const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, зависит от природы и состояния исходных веществ и конечных продуктов, но не зависит от пути протекания реакции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28760" y="3643200"/>
            <a:ext cx="8353440" cy="34225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С + О</a:t>
            </a:r>
            <a:r>
              <a:rPr b="1" i="1" lang="ru-RU" sz="3200" spc="-1" strike="noStrike" baseline="-25000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= СО</a:t>
            </a:r>
            <a:r>
              <a:rPr b="1" i="1" lang="ru-RU" sz="3200" spc="-1" strike="noStrike" baseline="-25000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+ ½ О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С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 + О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Feather_writes"/>
          <p:cNvPicPr/>
          <p:nvPr/>
        </p:nvPicPr>
        <p:blipFill>
          <a:blip r:embed="rId1"/>
          <a:stretch/>
        </p:blipFill>
        <p:spPr>
          <a:xfrm>
            <a:off x="7236000" y="0"/>
            <a:ext cx="1750680" cy="17510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685080" y="53352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кон Г.И. Гесса (184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Feather_writes"/>
          <p:cNvPicPr/>
          <p:nvPr/>
        </p:nvPicPr>
        <p:blipFill>
          <a:blip r:embed="rId1"/>
          <a:stretch/>
        </p:blipFill>
        <p:spPr>
          <a:xfrm>
            <a:off x="7392960" y="-171360"/>
            <a:ext cx="1751040" cy="17510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1042920" y="18900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ледствия из закона Гесс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981000"/>
            <a:ext cx="9144000" cy="228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-ции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об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кон.прод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обр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исх.в-в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428760" y="5429160"/>
            <a:ext cx="8358120" cy="1480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прямой реакци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обр. реакц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0" y="3143160"/>
            <a:ext cx="9144000" cy="228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-ции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i 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сгор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исх.в-в)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i 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сгор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кон.прод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Feather_writes"/>
          <p:cNvPicPr/>
          <p:nvPr/>
        </p:nvPicPr>
        <p:blipFill>
          <a:blip r:embed="rId1"/>
          <a:stretch/>
        </p:blipFill>
        <p:spPr>
          <a:xfrm>
            <a:off x="7162920" y="152280"/>
            <a:ext cx="1751040" cy="17510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395280" y="333360"/>
            <a:ext cx="691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нтальпия сгора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го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) – тепловой эффект реакции окисления кислородом 1 моль вещества до образования высших оксид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г) + 2,5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г)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2С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г) + 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(г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-ции =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1256 кД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971640" y="3141720"/>
            <a:ext cx="7200720" cy="34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Калорийность пищ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 кал = 4,18 Д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ры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37,7-39,8 кД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глеводы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16,5 – 17,2 кД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лки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16,5 – 17,2 кД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250920" y="444960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Feather_writes"/>
          <p:cNvPicPr/>
          <p:nvPr/>
        </p:nvPicPr>
        <p:blipFill>
          <a:blip r:embed="rId1"/>
          <a:stretch/>
        </p:blipFill>
        <p:spPr>
          <a:xfrm>
            <a:off x="7162920" y="152280"/>
            <a:ext cx="1751040" cy="17510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395280" y="333360"/>
            <a:ext cx="691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нергозатрат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дей (кка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тки) в зависимости от характера труда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группа (легкий труд) -2000-28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группа (врачи, студенты) - 3000-36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группа (тяжелый труд) – 4000-50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группа (проф. спортсмены)-7000 и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611280" y="3141720"/>
            <a:ext cx="777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редний расход энергии (кД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ин) при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дении – 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оянии -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одьбе – 1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еге - 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250920" y="444960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349"/>
          <p:cNvPicPr/>
          <p:nvPr/>
        </p:nvPicPr>
        <p:blipFill>
          <a:blip r:embed="rId1"/>
          <a:srcRect l="37436" t="0" r="0" b="75832"/>
          <a:stretch/>
        </p:blipFill>
        <p:spPr>
          <a:xfrm>
            <a:off x="114480" y="714240"/>
            <a:ext cx="8778600" cy="516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В каком направлении должна самопроизвольно протекать химическая реакция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question1"/>
          <p:cNvPicPr/>
          <p:nvPr/>
        </p:nvPicPr>
        <p:blipFill>
          <a:blip r:embed="rId1"/>
          <a:stretch/>
        </p:blipFill>
        <p:spPr>
          <a:xfrm>
            <a:off x="3348000" y="1916280"/>
            <a:ext cx="2611440" cy="26636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5"/>
          <p:cNvSpPr/>
          <p:nvPr/>
        </p:nvSpPr>
        <p:spPr>
          <a:xfrm>
            <a:off x="0" y="4724280"/>
            <a:ext cx="9144000" cy="1800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Самопроизвольный процесс совершается в системе  без затраты энергии извне, при этом происходит  уменьшение работоспособности систем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5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1547640" y="1413000"/>
            <a:ext cx="619308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476360" y="404640"/>
            <a:ext cx="633564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380880"/>
            <a:ext cx="9144000" cy="2043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енее устойчивое состояние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олее устойчивое состояние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  <a:ea typeface="Arial"/>
              </a:rPr>
              <a:t>ум-с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4211640" y="981000"/>
            <a:ext cx="504720" cy="1079640"/>
          </a:xfrm>
          <a:prstGeom prst="downArrow">
            <a:avLst>
              <a:gd name="adj1" fmla="val 50000"/>
              <a:gd name="adj2" fmla="val 534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7956720" y="620640"/>
            <a:ext cx="647640" cy="1584360"/>
          </a:xfrm>
          <a:custGeom>
            <a:avLst/>
            <a:gdLst>
              <a:gd name="textAreaLeft" fmla="*/ 86760 w 647640"/>
              <a:gd name="textAreaRight" fmla="*/ 560880 w 647640"/>
              <a:gd name="textAreaTop" fmla="*/ 322200 h 1584360"/>
              <a:gd name="textAreaBottom" fmla="*/ 110844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86" stAng="-5400000" swAng="5400000"/>
                <a:lnTo>
                  <a:pt x="21600" y="10719"/>
                </a:lnTo>
                <a:arcTo wR="21600" hR="8786" stAng="0" swAng="4679801"/>
                <a:lnTo>
                  <a:pt x="1861" y="21567"/>
                </a:lnTo>
                <a:lnTo>
                  <a:pt x="0" y="18538"/>
                </a:lnTo>
                <a:lnTo>
                  <a:pt x="1861" y="15442"/>
                </a:lnTo>
                <a:lnTo>
                  <a:pt x="1861" y="17538"/>
                </a:lnTo>
                <a:arcTo wR="21600" hR="8786" stAng="4679801" swAng="-4525143"/>
                <a:lnTo>
                  <a:pt x="21469" y="9752"/>
                </a:lnTo>
                <a:arcTo wR="21600" hR="8786" stAng="-154658" swAng="-5245342"/>
                <a:close/>
              </a:path>
              <a:path fill="darkenLess" w="21600" h="21600">
                <a:moveTo>
                  <a:pt x="0" y="0"/>
                </a:moveTo>
                <a:arcTo wR="21600" hR="8786" stAng="-5400000" swAng="5400000"/>
                <a:lnTo>
                  <a:pt x="21600" y="10719"/>
                </a:lnTo>
                <a:arcTo wR="21600" hR="8786" stAng="0" swAng="-154658"/>
                <a:lnTo>
                  <a:pt x="21469" y="9752"/>
                </a:lnTo>
                <a:arcTo wR="21600" hR="8786" stAng="-154658" swAng="-5245342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3" descr="4"/>
          <p:cNvPicPr/>
          <p:nvPr/>
        </p:nvPicPr>
        <p:blipFill>
          <a:blip r:embed="rId1"/>
          <a:stretch/>
        </p:blipFill>
        <p:spPr>
          <a:xfrm>
            <a:off x="3143160" y="2492280"/>
            <a:ext cx="2857680" cy="2089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4"/>
          <p:cNvSpPr/>
          <p:nvPr/>
        </p:nvSpPr>
        <p:spPr>
          <a:xfrm>
            <a:off x="0" y="4724280"/>
            <a:ext cx="9144000" cy="1800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Капля воды (система) состоит из большого количества молеку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Arial"/>
              </a:rPr>
              <a:t>Испарение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– процесс эндотермический, но самопроизвольны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8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642960" y="214200"/>
            <a:ext cx="2571840" cy="178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5214960" y="357120"/>
            <a:ext cx="2714760" cy="157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3"/>
          <p:cNvSpPr/>
          <p:nvPr/>
        </p:nvSpPr>
        <p:spPr>
          <a:xfrm>
            <a:off x="1500120" y="1714680"/>
            <a:ext cx="214560" cy="214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6"/>
          <p:cNvSpPr/>
          <p:nvPr/>
        </p:nvSpPr>
        <p:spPr>
          <a:xfrm>
            <a:off x="1143000" y="1357200"/>
            <a:ext cx="214200" cy="21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7"/>
          <p:cNvSpPr/>
          <p:nvPr/>
        </p:nvSpPr>
        <p:spPr>
          <a:xfrm>
            <a:off x="1714680" y="928800"/>
            <a:ext cx="214200" cy="214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8"/>
          <p:cNvSpPr/>
          <p:nvPr/>
        </p:nvSpPr>
        <p:spPr>
          <a:xfrm>
            <a:off x="2000160" y="1285920"/>
            <a:ext cx="214560" cy="214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блако 9"/>
          <p:cNvSpPr/>
          <p:nvPr/>
        </p:nvSpPr>
        <p:spPr>
          <a:xfrm>
            <a:off x="7143840" y="571680"/>
            <a:ext cx="357120" cy="4140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блако 10"/>
          <p:cNvSpPr/>
          <p:nvPr/>
        </p:nvSpPr>
        <p:spPr>
          <a:xfrm>
            <a:off x="5786280" y="857160"/>
            <a:ext cx="357480" cy="4143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блако 11"/>
          <p:cNvSpPr/>
          <p:nvPr/>
        </p:nvSpPr>
        <p:spPr>
          <a:xfrm>
            <a:off x="6572160" y="1000080"/>
            <a:ext cx="357120" cy="4143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блако 12"/>
          <p:cNvSpPr/>
          <p:nvPr/>
        </p:nvSpPr>
        <p:spPr>
          <a:xfrm>
            <a:off x="6143760" y="571680"/>
            <a:ext cx="357120" cy="4140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3"/>
          <p:cNvSpPr/>
          <p:nvPr/>
        </p:nvSpPr>
        <p:spPr>
          <a:xfrm>
            <a:off x="1000080" y="3786120"/>
            <a:ext cx="6572160" cy="642960"/>
          </a:xfrm>
          <a:prstGeom prst="rect">
            <a:avLst/>
          </a:prstGeom>
          <a:solidFill>
            <a:srgbClr val="adade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4"/>
          <p:cNvSpPr/>
          <p:nvPr/>
        </p:nvSpPr>
        <p:spPr>
          <a:xfrm>
            <a:off x="3214800" y="1357200"/>
            <a:ext cx="2000160" cy="571680"/>
          </a:xfrm>
          <a:prstGeom prst="rect">
            <a:avLst/>
          </a:prstGeom>
          <a:solidFill>
            <a:srgbClr val="cceed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5"/>
          <p:cNvSpPr/>
          <p:nvPr/>
        </p:nvSpPr>
        <p:spPr>
          <a:xfrm>
            <a:off x="1357200" y="5000760"/>
            <a:ext cx="4857840" cy="13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17"/>
          <p:cNvSpPr/>
          <p:nvPr/>
        </p:nvSpPr>
        <p:spPr>
          <a:xfrm>
            <a:off x="2500200" y="4857840"/>
            <a:ext cx="214560" cy="214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18"/>
          <p:cNvSpPr/>
          <p:nvPr/>
        </p:nvSpPr>
        <p:spPr>
          <a:xfrm>
            <a:off x="2857680" y="5357880"/>
            <a:ext cx="214200" cy="214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Облако 19"/>
          <p:cNvSpPr/>
          <p:nvPr/>
        </p:nvSpPr>
        <p:spPr>
          <a:xfrm>
            <a:off x="2071800" y="5429160"/>
            <a:ext cx="357120" cy="4143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Облако 20"/>
          <p:cNvSpPr/>
          <p:nvPr/>
        </p:nvSpPr>
        <p:spPr>
          <a:xfrm>
            <a:off x="4071960" y="4572000"/>
            <a:ext cx="357120" cy="4143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блако 21"/>
          <p:cNvSpPr/>
          <p:nvPr/>
        </p:nvSpPr>
        <p:spPr>
          <a:xfrm>
            <a:off x="4572000" y="5429160"/>
            <a:ext cx="357120" cy="4143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блако 22"/>
          <p:cNvSpPr/>
          <p:nvPr/>
        </p:nvSpPr>
        <p:spPr>
          <a:xfrm>
            <a:off x="2786040" y="5857920"/>
            <a:ext cx="357120" cy="4143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 23"/>
          <p:cNvSpPr/>
          <p:nvPr/>
        </p:nvSpPr>
        <p:spPr>
          <a:xfrm>
            <a:off x="3714840" y="5214960"/>
            <a:ext cx="214200" cy="214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24"/>
          <p:cNvSpPr/>
          <p:nvPr/>
        </p:nvSpPr>
        <p:spPr>
          <a:xfrm>
            <a:off x="4214880" y="6072120"/>
            <a:ext cx="214200" cy="21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5"/>
          <p:cNvSpPr/>
          <p:nvPr/>
        </p:nvSpPr>
        <p:spPr>
          <a:xfrm>
            <a:off x="6500880" y="5143680"/>
            <a:ext cx="2428920" cy="928440"/>
          </a:xfrm>
          <a:prstGeom prst="rect">
            <a:avLst/>
          </a:prstGeom>
          <a:solidFill>
            <a:srgbClr val="cceed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величился беспорядо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entropy.avi" descr=""/>
          <p:cNvPicPr/>
          <p:nvPr/>
        </p:nvPicPr>
        <p:blipFill>
          <a:blip r:embed="rId1"/>
          <a:stretch/>
        </p:blipFill>
        <p:spPr>
          <a:xfrm>
            <a:off x="2071800" y="2143080"/>
            <a:ext cx="3786120" cy="14382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3500"/>
                            </p:stCondLst>
                            <p:childTnLst>
                              <p:par>
                                <p:cTn id="501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2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504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7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214200" y="928800"/>
            <a:ext cx="83822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Термодинамической системой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зывается любой объект природы, состоящий из достаточно большого числа молекул (структурных единиц) и отделенный от других объектов природы реальной или воображаемой границей раздела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857160" y="2714760"/>
            <a:ext cx="58676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истемы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гомогенные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(воздух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истемы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гетерогенные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(кровь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Feather_writes"/>
          <p:cNvPicPr/>
          <p:nvPr/>
        </p:nvPicPr>
        <p:blipFill>
          <a:blip r:embed="rId1"/>
          <a:stretch/>
        </p:blipFill>
        <p:spPr>
          <a:xfrm>
            <a:off x="8001000" y="152280"/>
            <a:ext cx="1143000" cy="12049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304920" y="457200"/>
            <a:ext cx="83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рмодинамик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ка об энергетике процессо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295280" y="5410080"/>
            <a:ext cx="6777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и отсутствии массо- и теплообмена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 внешней средой говорят об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изолированной систем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= 0, </a:t>
            </a:r>
            <a:r>
              <a:rPr b="1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= 0)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605880" y="3571920"/>
            <a:ext cx="7319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Если система обменивается с окружающей средой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ассой и теплом, она называетс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крытой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459360" y="4429080"/>
            <a:ext cx="76042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Если система обменивается с окружающей средой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нергией (но не массой!), она называетс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о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2843280" y="5084640"/>
            <a:ext cx="3673440" cy="16480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  <a:ea typeface="Arial"/>
              </a:rPr>
              <a:t>S = Q/Т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 Дж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моль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·K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539640" y="2349360"/>
            <a:ext cx="7925040" cy="2653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Энтроп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функция состояния, приращение которой </a:t>
            </a:r>
            <a:r>
              <a:rPr b="1" i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вно теплоте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Q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подведенной к системе в обратимом изотермическом процессе, деленной на абсолютную температуру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при которой осуществляется процесс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250920" y="260280"/>
            <a:ext cx="8642160" cy="1800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Энтроп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функция состояния, характеризующая меру неупорядоченности системы, неоднородности расположения  и движения ее части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500"/>
                            </p:stCondLst>
                            <p:childTnLst>
                              <p:par>
                                <p:cTn id="51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Энтроп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7120" y="1196640"/>
            <a:ext cx="8501040" cy="50180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еличина энтропии зависи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ж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рафита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алма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ложность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н 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-ции=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iS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н.прод—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iS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сх.в-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533520" y="304920"/>
            <a:ext cx="454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торой закон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рмодинами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3276720" y="46530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S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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 0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Feather_writes"/>
          <p:cNvPicPr/>
          <p:nvPr/>
        </p:nvPicPr>
        <p:blipFill>
          <a:blip r:embed="rId1"/>
          <a:stretch/>
        </p:blipFill>
        <p:spPr>
          <a:xfrm>
            <a:off x="7010280" y="45720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523800" y="2514600"/>
            <a:ext cx="8091720" cy="1008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юбая система, предоставленная сама себе, в среднем буде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меняться в направлении состояния, отвечающег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аксимальной вероятн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526320" y="3809880"/>
            <a:ext cx="7261200" cy="7038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любом необратимом процессе полная энтропия все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матриваемых тел возрастае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521280" y="5410080"/>
            <a:ext cx="81496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стояние с максимальной энтропией – наиболее устойчиво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стояние для изолированной систем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611640" y="185724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ьюи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610920" y="4800600"/>
            <a:ext cx="12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р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500"/>
                            </p:stCondLst>
                            <p:childTnLst>
                              <p:par>
                                <p:cTn id="54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250920" y="228600"/>
            <a:ext cx="86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ли в процессе степень беспорядка не изменяется (</a:t>
            </a:r>
            <a:r>
              <a:rPr b="1" i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= 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, то направление процесса определяется изменением энтальп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процесс проходит самопроизвольно в направлении уменьшения энтальпи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108000" y="2276640"/>
            <a:ext cx="885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ли в процессе не происходит энергетических изменени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Н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= 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, фактором,  определяющим направление реакции, является энтропия и процесс пойдет самопроизвольно в направлении, при котором степень беспорядка возрастает, т.е. в сторону увеличения энтропи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0" y="4797360"/>
            <a:ext cx="9144000" cy="10688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стремление системы  к минимуму энергии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тремление системы к максимуму энтроп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Object 2"/>
          <p:cNvGraphicFramePr/>
          <p:nvPr/>
        </p:nvGraphicFramePr>
        <p:xfrm>
          <a:off x="152280" y="609480"/>
          <a:ext cx="2511720" cy="313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2511720" cy="31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3"/>
          <p:cNvGraphicFramePr/>
          <p:nvPr/>
        </p:nvGraphicFramePr>
        <p:xfrm>
          <a:off x="457200" y="914400"/>
          <a:ext cx="1928880" cy="260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914400"/>
                    <a:ext cx="1928880" cy="26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Rectangle 4"/>
          <p:cNvSpPr/>
          <p:nvPr/>
        </p:nvSpPr>
        <p:spPr>
          <a:xfrm>
            <a:off x="0" y="3733920"/>
            <a:ext cx="27766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ж. Гибб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1839-190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2971800" y="1600200"/>
            <a:ext cx="533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честве критерия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произвольности процессов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есообразно ввести новую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ю состояния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торая учитывает влияни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оих фактор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3657600" y="38862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G = </a:t>
            </a: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H - T</a:t>
            </a: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2971800" y="45720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  <a:ea typeface="Arial"/>
              </a:rPr>
              <a:t>вободн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ая энергия Гиббса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  <a:ea typeface="Arial"/>
              </a:rPr>
              <a:t> (</a:t>
            </a:r>
            <a:r>
              <a:rPr b="1" i="1" lang="ru-RU" sz="2400" spc="-1" strike="noStrike">
                <a:solidFill>
                  <a:srgbClr val="3333cc"/>
                </a:solidFill>
                <a:latin typeface="Arial"/>
                <a:ea typeface="Arial"/>
              </a:rPr>
              <a:t>G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2974680" y="457200"/>
            <a:ext cx="4515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  <a:ea typeface="Arial"/>
              </a:rPr>
              <a:t>вободн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ая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  <a:ea typeface="Arial"/>
              </a:rPr>
              <a:t> энерги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  <a:ea typeface="Arial"/>
              </a:rPr>
              <a:t>Гиббса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9" descr="Feather_writes"/>
          <p:cNvPicPr/>
          <p:nvPr/>
        </p:nvPicPr>
        <p:blipFill>
          <a:blip r:embed="rId5"/>
          <a:stretch/>
        </p:blipFill>
        <p:spPr>
          <a:xfrm>
            <a:off x="7543800" y="15228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0"/>
          <p:cNvSpPr/>
          <p:nvPr/>
        </p:nvSpPr>
        <p:spPr>
          <a:xfrm>
            <a:off x="766800" y="5334120"/>
            <a:ext cx="7839000" cy="10994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Как и для других функций состояния, для свободной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энергии важно не абсолютное значение функции, а ее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изменение в ходе процесса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685800" y="48769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АЖНО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500"/>
                            </p:stCondLst>
                            <p:childTnLst>
                              <p:par>
                                <p:cTn id="64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539640" y="1890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Второе начало термодинами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  <a:ea typeface="Arial"/>
              </a:rPr>
              <a:t>(определение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Гиббса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  <a:ea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395280" y="1268280"/>
            <a:ext cx="8077320" cy="35067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изотермических условиях в системе самопроизвольно могут осуществляться только такие процессы, в результате которых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бодна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нергия системы уменьшается (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G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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состоянии равновес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бодна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нергия системы не меняетс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G = const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  <a:ea typeface="Arial"/>
              </a:rPr>
              <a:t>,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G = 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Feather_writes"/>
          <p:cNvPicPr/>
          <p:nvPr/>
        </p:nvPicPr>
        <p:blipFill>
          <a:blip r:embed="rId1"/>
          <a:stretch/>
        </p:blipFill>
        <p:spPr>
          <a:xfrm>
            <a:off x="76201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5"/>
          <p:cNvSpPr/>
          <p:nvPr/>
        </p:nvSpPr>
        <p:spPr>
          <a:xfrm>
            <a:off x="324000" y="4941720"/>
            <a:ext cx="8076960" cy="1373760"/>
          </a:xfrm>
          <a:prstGeom prst="rect">
            <a:avLst/>
          </a:prstGeom>
          <a:solidFill>
            <a:srgbClr val="99ff99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охимические процесс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Экзэргонические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G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&lt;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Arial"/>
              </a:rPr>
              <a:t>       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Arial"/>
              </a:rPr>
              <a:t>Эндэргонические  </a:t>
            </a:r>
            <a:r>
              <a:rPr b="1" lang="ru-RU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G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&gt;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500"/>
                            </p:stCondLst>
                            <p:childTnLst>
                              <p:par>
                                <p:cTn id="67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6186960" y="609120"/>
            <a:ext cx="2151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Факторы,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пределяющие ход процесс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3"/>
          <p:cNvGrpSpPr/>
          <p:nvPr/>
        </p:nvGrpSpPr>
        <p:grpSpPr>
          <a:xfrm>
            <a:off x="395280" y="2852640"/>
            <a:ext cx="8457480" cy="3105000"/>
            <a:chOff x="395280" y="2852640"/>
            <a:chExt cx="8457480" cy="3105000"/>
          </a:xfrm>
        </p:grpSpPr>
        <p:sp>
          <p:nvSpPr>
            <p:cNvPr id="188" name="Rectangle 4"/>
            <p:cNvSpPr/>
            <p:nvPr/>
          </p:nvSpPr>
          <p:spPr>
            <a:xfrm>
              <a:off x="395280" y="2852640"/>
              <a:ext cx="86976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lang="ru-RU" sz="2800" spc="-1" strike="noStrike">
                  <a:solidFill>
                    <a:srgbClr val="3333cc"/>
                  </a:solidFill>
                  <a:latin typeface="Arial"/>
                  <a:ea typeface="Arial"/>
                </a:rPr>
                <a:t>Н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5"/>
            <p:cNvSpPr/>
            <p:nvPr/>
          </p:nvSpPr>
          <p:spPr>
            <a:xfrm>
              <a:off x="1265040" y="2852640"/>
              <a:ext cx="91404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lang="ru-RU" sz="2800" spc="-1" strike="noStrike">
                  <a:solidFill>
                    <a:srgbClr val="3333cc"/>
                  </a:solidFill>
                  <a:latin typeface="Arial"/>
                  <a:ea typeface="Arial"/>
                </a:rPr>
                <a:t>S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"/>
            <p:cNvSpPr/>
            <p:nvPr/>
          </p:nvSpPr>
          <p:spPr>
            <a:xfrm>
              <a:off x="2179440" y="2852640"/>
              <a:ext cx="667332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Возможность самопроизвольного процесс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7"/>
            <p:cNvSpPr/>
            <p:nvPr/>
          </p:nvSpPr>
          <p:spPr>
            <a:xfrm>
              <a:off x="395280" y="3582720"/>
              <a:ext cx="86976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8"/>
            <p:cNvSpPr/>
            <p:nvPr/>
          </p:nvSpPr>
          <p:spPr>
            <a:xfrm>
              <a:off x="1265040" y="3582720"/>
              <a:ext cx="91404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9"/>
            <p:cNvSpPr/>
            <p:nvPr/>
          </p:nvSpPr>
          <p:spPr>
            <a:xfrm>
              <a:off x="2179440" y="3582720"/>
              <a:ext cx="667332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озможен при любой температуре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0"/>
            <p:cNvSpPr/>
            <p:nvPr/>
          </p:nvSpPr>
          <p:spPr>
            <a:xfrm>
              <a:off x="395280" y="4176720"/>
              <a:ext cx="8697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1"/>
            <p:cNvSpPr/>
            <p:nvPr/>
          </p:nvSpPr>
          <p:spPr>
            <a:xfrm>
              <a:off x="1265040" y="4176720"/>
              <a:ext cx="9140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2"/>
            <p:cNvSpPr/>
            <p:nvPr/>
          </p:nvSpPr>
          <p:spPr>
            <a:xfrm>
              <a:off x="2179440" y="4176720"/>
              <a:ext cx="667332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озможен при низких температурах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3"/>
            <p:cNvSpPr/>
            <p:nvPr/>
          </p:nvSpPr>
          <p:spPr>
            <a:xfrm>
              <a:off x="395280" y="4770360"/>
              <a:ext cx="8697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4"/>
            <p:cNvSpPr/>
            <p:nvPr/>
          </p:nvSpPr>
          <p:spPr>
            <a:xfrm>
              <a:off x="1265040" y="4770360"/>
              <a:ext cx="9140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5"/>
            <p:cNvSpPr/>
            <p:nvPr/>
          </p:nvSpPr>
          <p:spPr>
            <a:xfrm>
              <a:off x="2179440" y="4770360"/>
              <a:ext cx="667332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озможен при высоких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мпературах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6"/>
            <p:cNvSpPr/>
            <p:nvPr/>
          </p:nvSpPr>
          <p:spPr>
            <a:xfrm>
              <a:off x="395280" y="5364000"/>
              <a:ext cx="8697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7"/>
            <p:cNvSpPr/>
            <p:nvPr/>
          </p:nvSpPr>
          <p:spPr>
            <a:xfrm>
              <a:off x="1265040" y="5364000"/>
              <a:ext cx="9140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8"/>
            <p:cNvSpPr/>
            <p:nvPr/>
          </p:nvSpPr>
          <p:spPr>
            <a:xfrm>
              <a:off x="2179440" y="5364000"/>
              <a:ext cx="667332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оцесс невозможен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Rectangle 19"/>
          <p:cNvSpPr/>
          <p:nvPr/>
        </p:nvSpPr>
        <p:spPr>
          <a:xfrm>
            <a:off x="2133720" y="18288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G = </a:t>
            </a: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H - T</a:t>
            </a: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539640" y="404640"/>
            <a:ext cx="7920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обенности биохимических процесс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цип энергетического сопряж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Ф + 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ДФ + нФ (а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Ф + 2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МФ + нФ (б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-ц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Д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-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1,0 кД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л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ыв связ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дратация, изомеризация и нейтрализация  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пряж.реакци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Необходимое услов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общего промежуточного соедин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Feather_writes"/>
          <p:cNvPicPr/>
          <p:nvPr/>
        </p:nvPicPr>
        <p:blipFill>
          <a:blip r:embed="rId1"/>
          <a:stretch/>
        </p:blipFill>
        <p:spPr>
          <a:xfrm>
            <a:off x="6948360" y="1916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500"/>
                            </p:stCondLst>
                            <p:childTnLst>
                              <p:par>
                                <p:cTn id="7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2124000" y="3357720"/>
            <a:ext cx="4969080" cy="649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179280" y="404640"/>
            <a:ext cx="8964720" cy="5773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нцип энергетического сопряжения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ТФ + 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АДФ + нФ (а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юкоза  + фруктоза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ахароза + 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(б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-ци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a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3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Д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л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-ци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20,9 кД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л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опряж.реакций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Необходимое услов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общего промежуточного соедин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Глюкозо-1-фосфа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179280" y="428760"/>
            <a:ext cx="7921800" cy="2348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обенности биохимических процесс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тим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биохимических процессов, стремление к равновесию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энергетическая выгодност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Feather_writes"/>
          <p:cNvPicPr/>
          <p:nvPr/>
        </p:nvPicPr>
        <p:blipFill>
          <a:blip r:embed="rId1"/>
          <a:stretch/>
        </p:blipFill>
        <p:spPr>
          <a:xfrm>
            <a:off x="7740720" y="-17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5"/>
          <p:cNvSpPr/>
          <p:nvPr/>
        </p:nvSpPr>
        <p:spPr>
          <a:xfrm>
            <a:off x="179280" y="2637000"/>
            <a:ext cx="5472360" cy="4118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"/>
          <p:cNvSpPr/>
          <p:nvPr/>
        </p:nvSpPr>
        <p:spPr>
          <a:xfrm flipV="1">
            <a:off x="1403280" y="2852280"/>
            <a:ext cx="0" cy="230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>
            <a:off x="1403280" y="5157720"/>
            <a:ext cx="3097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"/>
          <p:cNvSpPr/>
          <p:nvPr/>
        </p:nvSpPr>
        <p:spPr>
          <a:xfrm flipV="1">
            <a:off x="4500720" y="2852280"/>
            <a:ext cx="0" cy="23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2"/>
          <p:cNvSpPr/>
          <p:nvPr/>
        </p:nvSpPr>
        <p:spPr>
          <a:xfrm rot="226800">
            <a:off x="1332000" y="3497400"/>
            <a:ext cx="3166920" cy="12254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1763640" y="3500280"/>
            <a:ext cx="1008000" cy="432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4"/>
          <p:cNvSpPr/>
          <p:nvPr/>
        </p:nvSpPr>
        <p:spPr>
          <a:xfrm>
            <a:off x="3348000" y="3500280"/>
            <a:ext cx="934920" cy="432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724360" y="2643120"/>
            <a:ext cx="3240360" cy="32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В случае протекания обратимых реакций система самопроизвольно приходит к состоянию       химического равновесия .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8244000" y="2500200"/>
            <a:ext cx="61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!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500"/>
                            </p:stCondLst>
                            <p:childTnLst>
                              <p:par>
                                <p:cTn id="7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3000"/>
                            </p:stCondLst>
                            <p:childTnLst>
                              <p:par>
                                <p:cTn id="7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42920" y="4508640"/>
            <a:ext cx="885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   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Состояние систем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определяется совокупностью ее свойств  и характеризуется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    термодинамическими           параметрами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79280" y="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Состояние системы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Arial"/>
              </a:rPr>
              <a:t>Равновесн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– характеризуется постоянством всех свойств во времени за счет отсутствия потоков вещества и энергии в систем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Стационарн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-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арактеризуется постоянством всех свойств во времени за счет непрерывного обмена веществом и энергией между системой и окружающей средо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  <a:ea typeface="Arial"/>
              </a:rPr>
              <a:t>Переходное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зменение свойств системы во времен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324000" y="428760"/>
            <a:ext cx="8424720" cy="5154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обенности биохимических процесс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ногостадий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саморегуляция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ч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Feather_writes"/>
          <p:cNvPicPr/>
          <p:nvPr/>
        </p:nvPicPr>
        <p:blipFill>
          <a:blip r:embed="rId1"/>
          <a:stretch/>
        </p:blipFill>
        <p:spPr>
          <a:xfrm>
            <a:off x="7740720" y="-17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21" name="Line 5"/>
          <p:cNvSpPr/>
          <p:nvPr/>
        </p:nvSpPr>
        <p:spPr>
          <a:xfrm flipV="1">
            <a:off x="1116000" y="1989000"/>
            <a:ext cx="0" cy="187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476360" y="4365720"/>
            <a:ext cx="2017800" cy="431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0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3"/>
          <p:cNvSpPr/>
          <p:nvPr/>
        </p:nvSpPr>
        <p:spPr>
          <a:xfrm>
            <a:off x="1116000" y="3860640"/>
            <a:ext cx="381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4"/>
          <p:cNvSpPr/>
          <p:nvPr/>
        </p:nvSpPr>
        <p:spPr>
          <a:xfrm flipV="1">
            <a:off x="4932360" y="2060640"/>
            <a:ext cx="0" cy="180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5"/>
          <p:cNvSpPr/>
          <p:nvPr/>
        </p:nvSpPr>
        <p:spPr>
          <a:xfrm>
            <a:off x="4500720" y="4149720"/>
            <a:ext cx="3600360" cy="1368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каждой стад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=)10кД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ь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rc 27"/>
          <p:cNvSpPr/>
          <p:nvPr/>
        </p:nvSpPr>
        <p:spPr>
          <a:xfrm rot="8771400">
            <a:off x="2484360" y="2349000"/>
            <a:ext cx="936720" cy="9144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rc 28"/>
          <p:cNvSpPr/>
          <p:nvPr/>
        </p:nvSpPr>
        <p:spPr>
          <a:xfrm rot="9335400">
            <a:off x="1258920" y="1989000"/>
            <a:ext cx="936720" cy="9144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rc 29"/>
          <p:cNvSpPr/>
          <p:nvPr/>
        </p:nvSpPr>
        <p:spPr>
          <a:xfrm rot="8771400">
            <a:off x="3779640" y="2637000"/>
            <a:ext cx="936360" cy="9144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500"/>
                            </p:stCondLst>
                            <p:childTnLst>
                              <p:par>
                                <p:cTn id="76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214200" y="432000"/>
            <a:ext cx="8929800" cy="9471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 Э.Бауэром был сформулирован «Всеобщий закон биологии» в следующей редакции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6"/>
          <p:cNvSpPr/>
          <p:nvPr/>
        </p:nvSpPr>
        <p:spPr>
          <a:xfrm>
            <a:off x="928800" y="1714680"/>
            <a:ext cx="7715160" cy="393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се и только живые системы никогда не бывают в равновесии и исполняют за счет своей свободной энергии постоянную работу против равновесия, требуемого законами физики и химии при существующих внешних условиях»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539640" y="404640"/>
            <a:ext cx="7920000" cy="3506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нцип И. Пригож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в открытой системе в стационарном состоянии прирост энтропии в единицу времени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имает минимальное положительное значение для данных услов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Feather_writes"/>
          <p:cNvPicPr/>
          <p:nvPr/>
        </p:nvPicPr>
        <p:blipFill>
          <a:blip r:embed="rId1"/>
          <a:stretch/>
        </p:blipFill>
        <p:spPr>
          <a:xfrm>
            <a:off x="7740720" y="-17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104040" y="4071960"/>
            <a:ext cx="9027720" cy="16178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Энтропия – мера рассеяния энерг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При стационарном состоянии рассеяние  энерг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Гиббса –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минимально !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3000"/>
                            </p:stCondLst>
                            <p:childTnLst>
                              <p:par>
                                <p:cTn id="78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357120" y="812880"/>
            <a:ext cx="8501040" cy="5639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27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В живых организмах ни один процесс не может происходить непрерывно, а должен чередоваться с противоположно направленным: вдох с выдохом, работа с отдыхом, бодрствование со сном,  синтез веществ с их расщеплением и т.д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27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ояние живого организма никогда не бывает статическим, а все его физиологические и энергетические параметры всегда находятся в состоянии непрерывных колебаний относительно средних значений, как по частоте, так и по амплитуде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"/>
          <p:cNvSpPr/>
          <p:nvPr/>
        </p:nvSpPr>
        <p:spPr>
          <a:xfrm>
            <a:off x="571680" y="214200"/>
            <a:ext cx="3214440" cy="571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Таким образом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539640" y="404640"/>
            <a:ext cx="8353440" cy="71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обенности биохимических процесс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ойчивость живых организм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ительная работоспособнос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омеоста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b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2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b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легкие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b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ru-RU" sz="2800" spc="-1" strike="noStrike" baseline="-25000">
                <a:solidFill>
                  <a:srgbClr val="3333cc"/>
                </a:solidFill>
                <a:latin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b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ткани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еобласт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еоклас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образование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(растворение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а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РО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Feather_writes"/>
          <p:cNvPicPr/>
          <p:nvPr/>
        </p:nvPicPr>
        <p:blipFill>
          <a:blip r:embed="rId1"/>
          <a:stretch/>
        </p:blipFill>
        <p:spPr>
          <a:xfrm>
            <a:off x="7315200" y="62064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38" name="AutoShape 4"/>
          <p:cNvSpPr/>
          <p:nvPr/>
        </p:nvSpPr>
        <p:spPr>
          <a:xfrm>
            <a:off x="4211640" y="907920"/>
            <a:ext cx="431640" cy="720720"/>
          </a:xfrm>
          <a:prstGeom prst="downArrow">
            <a:avLst>
              <a:gd name="adj1" fmla="val 50000"/>
              <a:gd name="adj2" fmla="val 41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7"/>
          <p:cNvSpPr/>
          <p:nvPr/>
        </p:nvSpPr>
        <p:spPr>
          <a:xfrm>
            <a:off x="2987640" y="2781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8"/>
          <p:cNvSpPr/>
          <p:nvPr/>
        </p:nvSpPr>
        <p:spPr>
          <a:xfrm flipH="1">
            <a:off x="3419640" y="2997360"/>
            <a:ext cx="57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9"/>
          <p:cNvSpPr/>
          <p:nvPr/>
        </p:nvSpPr>
        <p:spPr>
          <a:xfrm flipH="1">
            <a:off x="1979280" y="3068640"/>
            <a:ext cx="3384360" cy="936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0"/>
          <p:cNvSpPr/>
          <p:nvPr/>
        </p:nvSpPr>
        <p:spPr>
          <a:xfrm>
            <a:off x="2987640" y="4005360"/>
            <a:ext cx="172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1"/>
          <p:cNvSpPr/>
          <p:nvPr/>
        </p:nvSpPr>
        <p:spPr>
          <a:xfrm flipH="1">
            <a:off x="3924000" y="422100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7"/>
          <p:cNvSpPr/>
          <p:nvPr/>
        </p:nvSpPr>
        <p:spPr>
          <a:xfrm rot="2735400">
            <a:off x="3384720" y="5121000"/>
            <a:ext cx="647640" cy="432000"/>
          </a:xfrm>
          <a:prstGeom prst="rightArrow">
            <a:avLst>
              <a:gd name="adj1" fmla="val 50000"/>
              <a:gd name="adj2" fmla="val 374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8"/>
          <p:cNvSpPr/>
          <p:nvPr/>
        </p:nvSpPr>
        <p:spPr>
          <a:xfrm rot="20008200">
            <a:off x="5148000" y="5084280"/>
            <a:ext cx="803160" cy="505080"/>
          </a:xfrm>
          <a:prstGeom prst="rightArrow">
            <a:avLst>
              <a:gd name="adj1" fmla="val 50000"/>
              <a:gd name="adj2" fmla="val 397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500"/>
                            </p:stCondLst>
                            <p:childTnLst>
                              <p:par>
                                <p:cTn id="79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68360" y="4365720"/>
            <a:ext cx="7993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ля характеристики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 состояния системы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используют кроме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термодинамических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 параметров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акже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функции состояния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95280" y="692280"/>
            <a:ext cx="838188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ажнейш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термодинамическ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параметр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ы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Экстенсивные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(массы веществ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m,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бъем системы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V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количество вещества 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n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Интенсивные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(температура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Т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давление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концентрац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веществ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С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и взаимодействии систем значения экстенсивных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метров </a:t>
            </a:r>
            <a:r>
              <a:rPr b="1" lang="ru-RU" sz="2800" spc="-1" strike="noStrike">
                <a:solidFill>
                  <a:srgbClr val="2d2db9"/>
                </a:solidFill>
                <a:latin typeface="Arial"/>
              </a:rPr>
              <a:t>суммируют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а интенсивных -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усредняютс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79280" y="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араметры системы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04920" y="47628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ункции состоя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истемы – всегда экстенсивные величины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Функции состоя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завися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от термодинамических параметров, характеризующих состояние систем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 завися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т пути достижения данного состоя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80880" y="2895480"/>
            <a:ext cx="830592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нкц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й состояния является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олная энергия системы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которая представляет собой сумму трех составляющих: кинетической энергии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потенциальной энергии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обусловленной действием внешних силовых полей (гравитационного, электромагнитного и пр.), и внутренней энергии системы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U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Е = К + П + U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04920" y="47628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нутренняя энергия систем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U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вна сумме потенциальной и кинетической энергии всех частиц этой системы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U = 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395280" y="1844640"/>
            <a:ext cx="8280360" cy="16786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роцесс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еход системы из одного состояния в друго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нечное значение (параметра, функции)  — начальное зна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араметра, функции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395280" y="5589720"/>
            <a:ext cx="8202600" cy="886320"/>
          </a:xfrm>
          <a:prstGeom prst="rect">
            <a:avLst/>
          </a:prstGeom>
          <a:gradFill rotWithShape="0">
            <a:gsLst>
              <a:gs pos="0">
                <a:srgbClr val="477647"/>
              </a:gs>
              <a:gs pos="50000">
                <a:srgbClr val="99ff99"/>
              </a:gs>
              <a:gs pos="100000">
                <a:srgbClr val="4776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иохимические реак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, Т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n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95280" y="3645000"/>
            <a:ext cx="8202600" cy="16786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ассификация процессов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Изотермически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 = 0)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зобарический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st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Изохорически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nst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 =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"/>
          <p:cNvSpPr/>
          <p:nvPr/>
        </p:nvSpPr>
        <p:spPr>
          <a:xfrm>
            <a:off x="539640" y="260280"/>
            <a:ext cx="8305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бот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А) - это энергетическая мера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направленных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форм движения частиц в процессе взаимодействия системы с окружающей средой. А +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плот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энергетическая мера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хаотических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форм движения частиц в процессе взаимодействия системы с окружающей средой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250920" y="393372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и теплота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не являются свойствами системы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арактеризуют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процесс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мена энергией между системой и окружающей средой, поэтому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висят от пу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роцесс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457200" y="1676520"/>
            <a:ext cx="8229600" cy="1312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Если отсутствует теплообмен системы с внешней средой, запас ее внутренней энергии остается постоянным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=0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57200" y="335268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общенная системе теплот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Q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ходуется на увеличение внутренней энерг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U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на совершение работы против внешних си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971800" y="495288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Q = </a:t>
            </a:r>
            <a:r>
              <a:rPr b="1" i="1" lang="ru-RU" sz="4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U + A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Feather_writes"/>
          <p:cNvPicPr/>
          <p:nvPr/>
        </p:nvPicPr>
        <p:blipFill>
          <a:blip r:embed="rId1"/>
          <a:stretch/>
        </p:blipFill>
        <p:spPr>
          <a:xfrm>
            <a:off x="7162920" y="152280"/>
            <a:ext cx="1751040" cy="17510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751320" y="260280"/>
            <a:ext cx="635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ервый закон термодинами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Ю.Мейер, 1842 ,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изик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-врач 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8"/>
          <p:cNvSpPr/>
          <p:nvPr/>
        </p:nvSpPr>
        <p:spPr>
          <a:xfrm>
            <a:off x="3419640" y="4508640"/>
            <a:ext cx="1944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492360" y="4437000"/>
            <a:ext cx="1800360" cy="50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780000" y="142920"/>
            <a:ext cx="2149200" cy="642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50920" y="981000"/>
            <a:ext cx="8229600" cy="5882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Uкон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—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Uнач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ко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ч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i="1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U + A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Q =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Uкон —  Uнач) + (р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н — р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ч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Q =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Uкон + р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н ) — (Uнач + р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ч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 + pV = H –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энтальп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Q =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Feather_writes"/>
          <p:cNvPicPr/>
          <p:nvPr/>
        </p:nvPicPr>
        <p:blipFill>
          <a:blip r:embed="rId1"/>
          <a:stretch/>
        </p:blipFill>
        <p:spPr>
          <a:xfrm>
            <a:off x="7392960" y="0"/>
            <a:ext cx="1751040" cy="17510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826920" y="26028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р, Т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ns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=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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95280" y="5084640"/>
            <a:ext cx="8077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Энтальпия эквивалентна внутренней энергии системы при постоянном давлении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6T22:50:56Z</dcterms:created>
  <dc:creator>Zelenin</dc:creator>
  <dc:description/>
  <dc:language>en-US</dc:language>
  <cp:lastModifiedBy>Admin</cp:lastModifiedBy>
  <dcterms:modified xsi:type="dcterms:W3CDTF">2012-12-18T05:11:03Z</dcterms:modified>
  <cp:revision>220</cp:revision>
  <dc:subject/>
  <dc:title>Презентация PowerPoint</dc:title>
</cp:coreProperties>
</file>